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: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: Dusica Obrado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s a hard connective tissue, the major component of almost all skeletal systems in adult vertebrates. Bone appears to be nonliving – in fact, the word skeleton is derived from a Greek word meaning dried up. However, bone actually is a dynamic structure composed of both living tissues, such as bone cells, fat cells, and blood vessels, and nonliving materials, including water and mine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s are multipurpose structures that play diverse, vital roles in vertebrates. They provide framework for the body, supporting it and giving it shape. They also provide a surface for the attachment of muscles and act as levers, permitting many complex movements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lesson can be found in the textbook “English for Students of Medicine” by Dusica La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rr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e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e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 and discussion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unction of b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the soft core of b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ones does an adult human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bone consist 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steobla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tructural unit of compact b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cancellous b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ole of perioste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nables different ranges of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cause osteoporo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djectives from the follow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m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correct preposition from the list below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, from, on, to, in, into, by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explained..............the doctor that our problem is unu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articular study is associated.....................some hereditary mech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nfections are caused..................fun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n suffers......................osteopor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s provide framework...................the body, supporting it and giving it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one tissue matures, osteoblasts transform.................osteoc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patient must go.....................a well-balanced di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some evidence to suggest that certain diseases may run................fami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the words in column A with the corresponding words in column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                                         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                                           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er                                        bloo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                                         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dicate                                          med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cribe                                         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                                         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in                                               ank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e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23-09-06T22:40:08Z</dcterms:modified>
  <cp:revision>22</cp:revision>
  <dc:subject/>
  <dc:title>Slide 1</dc:title>
</cp:coreProperties>
</file>